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64265"/>
        <c:axId val="4755594"/>
      </c:barChart>
      <c:catAx>
        <c:axId val="64764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5594"/>
        <c:crosses val="autoZero"/>
        <c:auto val="1"/>
        <c:lblAlgn val="ctr"/>
        <c:lblOffset val="100"/>
        <c:noMultiLvlLbl val="0"/>
      </c:catAx>
      <c:valAx>
        <c:axId val="47555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64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80C1-BF17-4450-A913-BE491EC7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353-6068-4A04-8246-ACA823A5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F53-68C5-45D4-B109-273BF331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E7B-6B7D-4503-9177-7640F309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23F-6947-41DE-B9A7-1DAC1B44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CF2-3FD7-42DD-BD75-5C0908E0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554-2D03-44E9-81FF-73D23D94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633A-901A-4584-86ED-8A2BAA77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10D-0EC5-4CE9-832A-6B583FF7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117-3982-4794-B93F-29006742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6E71-C634-4E19-ABB3-AA7735A3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8D0-F5B6-4160-9344-68DED66F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604FD-1BB9-4B74-A3BD-E552450AD0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